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9156-E3EC-4416-AE85-2BEAFED5512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736B-7F78-46AC-901E-8FB9EAAC310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AEA7-5EF7-4C06-9B58-6023E8F74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4F81-6C90-4D1A-967E-DFF69B09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45F9-7DCB-46C7-A76B-BB1BC90AD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FE8B-D997-4BB0-811A-EB12176C3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DDD7-EE34-46F6-B823-87109CCA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0552-210C-49AA-AE13-5092BFA3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0B23-ECBB-4F0B-891F-9D4159EA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8BE3-5DE5-4073-853C-373B2184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330B-3B3A-4A76-8AAA-201D575E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6A46-D573-4635-8499-3C8C2402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CDBE-30E4-4CC1-AFD5-F85356DA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9D94-A8EA-4F07-BC2F-951B3645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7F91-9EE2-48FB-9EA3-6CA610720B4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,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is helps identify key issues around WHY, HOW, WHAT found, WHAT does it me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RESCAP MED and Liverp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24000" y="907560"/>
            <a:ext cx="8640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ain Ro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Fellowships program (hos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evious successful and productive experience in introducing young researchers to public health policy decision making and modell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o-participants in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arie Curi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oject led by Kath Bennet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ollaboration with researchers in Portugal, Denmark, Holland, Sp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edCHAMPS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experience helping develop public health &amp; modelling skills within four national teams: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veloped &amp; implemente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CHD, diabetes &amp; Stroke models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yria, Palestine Tunisia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urke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trong support for consolidating  &amp; expanding  the understanding of Public Health Policy Modelling in the region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s a tool that facilitates dialogue with policy stakeho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97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.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is helps identify key issues arou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Y, HOW, WHAT found, WHAT does it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: Create bullet points for each para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: Turn bullet points into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: Refine &amp; polish text. Most important sentences: FIRST, and 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,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is helps identify key issues around WHY, HOW, WHAT found, WHAT does it me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1: main message(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2: Comparison with other stu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3: Expand on key messages (option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4: Strengths &amp; Weaknesses (limitatio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5: Implications for: clinicians; public health professionals; policy mak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97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.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is helps identify key issues arou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Y, HOW, WHAT found, WHAT does it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: Create bullet points for each para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: Turn bullet points into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: Refine &amp; polish. Most important sentences: FIRST, and 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CAP-MED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versity of Liverp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ted Kingd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0" y="160020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op: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62 mill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orld 7</a:t>
            </a:r>
            <a:r>
              <a:rPr b="0" lang="en-GB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largest economy (GDP &amp; purchasing power parity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VD remains biggest kill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bout 190,000 deaths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stimated cost $45 billion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2012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Queen Diamond Jubil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ummer Olymp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lease visit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map uk"/>
          <p:cNvPicPr/>
          <p:nvPr/>
        </p:nvPicPr>
        <p:blipFill>
          <a:blip r:embed="rId1"/>
          <a:stretch/>
        </p:blipFill>
        <p:spPr>
          <a:xfrm>
            <a:off x="468360" y="1484280"/>
            <a:ext cx="3959280" cy="4903920"/>
          </a:xfrm>
          <a:prstGeom prst="rect">
            <a:avLst/>
          </a:prstGeom>
          <a:ln w="0">
            <a:noFill/>
          </a:ln>
        </p:spPr>
      </p:pic>
      <p:sp>
        <p:nvSpPr>
          <p:cNvPr id="63" name="Oval 4"/>
          <p:cNvSpPr/>
          <p:nvPr/>
        </p:nvSpPr>
        <p:spPr>
          <a:xfrm>
            <a:off x="2627280" y="4365720"/>
            <a:ext cx="504720" cy="2872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University of Liverpool </a:t>
            </a:r>
            <a:br>
              <a:rPr sz="32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Department of Public Health &amp; Poli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77028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partment of Public Health and Policy is home to many discip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search them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nequalities-Social context and consequences of ill-heal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linical effectiven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ealth impact assess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ndergraduate and graduate medical educ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uccessful MPH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(on campus,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on-lin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hD program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http://pcwww.liv.ac.uk/avam/Images/Vic_theme.jpg"/>
          <p:cNvPicPr/>
          <p:nvPr/>
        </p:nvPicPr>
        <p:blipFill>
          <a:blip r:embed="rId1"/>
          <a:stretch/>
        </p:blipFill>
        <p:spPr>
          <a:xfrm>
            <a:off x="395280" y="2349360"/>
            <a:ext cx="350856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ur T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276280"/>
            <a:ext cx="4114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f Simon Capewel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Chair of Clinical Epidemiolog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ontent Placeholder 2"/>
          <p:cNvSpPr/>
          <p:nvPr/>
        </p:nvSpPr>
        <p:spPr>
          <a:xfrm>
            <a:off x="4788000" y="2276640"/>
            <a:ext cx="4114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r Martin O’Flah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Lecturer in Epidemi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50920" y="3349800"/>
            <a:ext cx="87138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Our Research Interes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Examining what drives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rdiovascular disease (CVD) mortality rat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a range of high, middle &amp; low income countri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e development of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ffective and cost-saving cardiovascular prevention strategi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the UK and beyond: building on empirical evidence, policy analyses, and quantitative mod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ow best to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elp policy maker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velop effective non-communicable diseas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evention strategi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low, middle &amp; high- income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http://images.clickliverpool.com/admin/article/articleimages/1316448194-SimonCapewell-web.jpg"/>
          <p:cNvPicPr/>
          <p:nvPr/>
        </p:nvPicPr>
        <p:blipFill>
          <a:blip r:embed="rId1"/>
          <a:stretch/>
        </p:blipFill>
        <p:spPr>
          <a:xfrm>
            <a:off x="1476360" y="333360"/>
            <a:ext cx="1181160" cy="1781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s3.amazonaws.com/mendeley-photos/94/4e/944e4aa0f0971342c4fa11109483acab1ade1979std.png"/>
          <p:cNvPicPr/>
          <p:nvPr/>
        </p:nvPicPr>
        <p:blipFill>
          <a:blip r:embed="rId2"/>
          <a:stretch/>
        </p:blipFill>
        <p:spPr>
          <a:xfrm>
            <a:off x="6300720" y="404640"/>
            <a:ext cx="120348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4:37:00Z</dcterms:created>
  <dc:creator>Martin O'Flaherty</dc:creator>
  <dc:description/>
  <dc:language>en-US</dc:language>
  <cp:lastModifiedBy>Simon Capewell</cp:lastModifiedBy>
  <dcterms:modified xsi:type="dcterms:W3CDTF">2013-09-14T16:11:25Z</dcterms:modified>
  <cp:revision>9</cp:revision>
  <dc:subject/>
  <dc:title>RESCAP-MED: University of Liverpool</dc:title>
</cp:coreProperties>
</file>